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C894-7CFB-4057-8DEC-EA214F71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C51B-CF89-491B-83C8-86188E49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101C-5360-42B5-8043-C8516C32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D501-86F0-4665-B21D-C1C932D3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A213-617B-4A73-B320-96DD640E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C20A-4AE0-48D2-A575-DCA8E1E9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2758-F266-40F8-8432-90270A05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F367-ABE2-4CC8-9ED9-E2B1A575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C915-1AFC-42B7-9FAF-06C4F061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4D39-4907-4022-8F87-C505B3F8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9685-357A-4AFE-ABC9-C7EF575F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863D-D2C1-425C-ABAE-2CA19E13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835C-4A23-4F53-8AD0-CC02BAFE47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37160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轴对称（二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11811" t="57289" r="9085" b="10361"/>
          <a:stretch/>
        </p:blipFill>
        <p:spPr>
          <a:xfrm>
            <a:off x="380880" y="533520"/>
            <a:ext cx="8915400" cy="6324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828800" y="144792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905120" y="1523520"/>
            <a:ext cx="13716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514600" y="1447920"/>
            <a:ext cx="7632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52680" y="2209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152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809880" y="1600200"/>
            <a:ext cx="763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1600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2209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1447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7162560" y="1600200"/>
            <a:ext cx="759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553080" y="1828800"/>
            <a:ext cx="1447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81680" y="21337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52680" y="1752480"/>
            <a:ext cx="10670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352680" y="175248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981080" y="3809880"/>
            <a:ext cx="160020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361960" y="480060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447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00600" y="1600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1752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8660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1600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2057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467480" y="1905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057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4380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2057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2362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81680" y="373392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11430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已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图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△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A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它的角平分线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且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D=CD,DE⊥AB,DF⊥AC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垂足分别是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E,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求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:EB=F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4699080"/>
            <a:ext cx="579096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温馨提示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做完题目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定要“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悟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到点东西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纳入到自己的认知结构中去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581280" y="2133720"/>
            <a:ext cx="3581640" cy="2895120"/>
            <a:chOff x="3581280" y="2133720"/>
            <a:chExt cx="3581640" cy="2895120"/>
          </a:xfrm>
        </p:grpSpPr>
        <p:sp>
          <p:nvSpPr>
            <p:cNvPr id="45" name=""/>
            <p:cNvSpPr/>
            <p:nvPr/>
          </p:nvSpPr>
          <p:spPr>
            <a:xfrm>
              <a:off x="5715000" y="4572000"/>
              <a:ext cx="4572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581280" y="4343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105520" y="2133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96252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05520" y="4497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553080" y="44132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13160" y="3878280"/>
              <a:ext cx="938160" cy="618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846600" y="2565360"/>
              <a:ext cx="1387440" cy="1912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265640" y="4000320"/>
              <a:ext cx="16812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397040" y="4002120"/>
              <a:ext cx="7452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86200" y="4486320"/>
              <a:ext cx="2743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49880" y="2582640"/>
              <a:ext cx="4680" cy="1901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5233680" y="2526840"/>
              <a:ext cx="1392120" cy="1958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6247800" y="3581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257800" y="3878280"/>
              <a:ext cx="938160" cy="618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05440" y="3833640"/>
              <a:ext cx="114480" cy="16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905440" y="3703680"/>
              <a:ext cx="168480" cy="1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276920" y="17640"/>
            <a:ext cx="143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用一用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9880" y="0"/>
            <a:ext cx="0" cy="437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87400" y="-225360"/>
            <a:ext cx="552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43400" y="-222120"/>
            <a:ext cx="552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43760" y="66600"/>
            <a:ext cx="120924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8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043000" y="1146240"/>
            <a:ext cx="3419640" cy="93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483000" y="817200"/>
            <a:ext cx="289080" cy="360360"/>
            <a:chOff x="3483000" y="817200"/>
            <a:chExt cx="289080" cy="360360"/>
          </a:xfrm>
        </p:grpSpPr>
        <p:sp>
          <p:nvSpPr>
            <p:cNvPr id="69" name=""/>
            <p:cNvSpPr/>
            <p:nvPr/>
          </p:nvSpPr>
          <p:spPr>
            <a:xfrm flipV="1">
              <a:off x="3483000" y="817200"/>
              <a:ext cx="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83000" y="825120"/>
              <a:ext cx="289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3924360" y="-1128600"/>
            <a:ext cx="13176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4800600"/>
            <a:ext cx="87631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：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△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ABC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△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A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B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C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关于直线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对称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点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zh-CN" sz="20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1" lang="zh-CN" sz="14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分别是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的对称点，线段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AA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,BB</a:t>
            </a:r>
            <a:r>
              <a:rPr b="1" lang="zh-CN" sz="1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333399"/>
                </a:solidFill>
                <a:latin typeface="Arial"/>
              </a:rPr>
              <a:t>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CC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与直线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l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406840" y="1146240"/>
            <a:ext cx="936720" cy="2603520"/>
            <a:chOff x="5406840" y="1146240"/>
            <a:chExt cx="936720" cy="2603520"/>
          </a:xfrm>
        </p:grpSpPr>
        <p:sp>
          <p:nvSpPr>
            <p:cNvPr id="74" name=""/>
            <p:cNvSpPr/>
            <p:nvPr/>
          </p:nvSpPr>
          <p:spPr>
            <a:xfrm>
              <a:off x="5478480" y="1146240"/>
              <a:ext cx="865080" cy="165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5406840" y="2740320"/>
              <a:ext cx="936360" cy="100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407200" y="1157400"/>
              <a:ext cx="70920" cy="2590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25440" y="-158760"/>
            <a:ext cx="2519280" cy="4763160"/>
            <a:chOff x="325440" y="-158760"/>
            <a:chExt cx="2519280" cy="4763160"/>
          </a:xfrm>
        </p:grpSpPr>
        <p:sp>
          <p:nvSpPr>
            <p:cNvPr id="78" name=""/>
            <p:cNvSpPr/>
            <p:nvPr/>
          </p:nvSpPr>
          <p:spPr>
            <a:xfrm>
              <a:off x="1333080" y="-158760"/>
              <a:ext cx="91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187280" y="1138320"/>
              <a:ext cx="936720" cy="2603520"/>
              <a:chOff x="1187280" y="1138320"/>
              <a:chExt cx="936720" cy="2603520"/>
            </a:xfrm>
          </p:grpSpPr>
          <p:sp>
            <p:nvSpPr>
              <p:cNvPr id="80" name=""/>
              <p:cNvSpPr/>
              <p:nvPr/>
            </p:nvSpPr>
            <p:spPr>
              <a:xfrm flipH="1">
                <a:off x="1187280" y="1138320"/>
                <a:ext cx="865080" cy="165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87640" y="2732400"/>
                <a:ext cx="936360" cy="100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052720" y="1149480"/>
                <a:ext cx="70920" cy="2590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25440" y="1930680"/>
              <a:ext cx="858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08360" y="3413160"/>
              <a:ext cx="93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5316480" y="3306600"/>
            <a:ext cx="120924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8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52120" y="1866960"/>
            <a:ext cx="115308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8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262160" y="2747880"/>
            <a:ext cx="5040360" cy="129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494160" y="2420640"/>
            <a:ext cx="288720" cy="360360"/>
            <a:chOff x="3494160" y="2420640"/>
            <a:chExt cx="288720" cy="360360"/>
          </a:xfrm>
        </p:grpSpPr>
        <p:sp>
          <p:nvSpPr>
            <p:cNvPr id="89" name=""/>
            <p:cNvSpPr/>
            <p:nvPr/>
          </p:nvSpPr>
          <p:spPr>
            <a:xfrm flipV="1">
              <a:off x="3494160" y="2420640"/>
              <a:ext cx="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94160" y="2428560"/>
              <a:ext cx="288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 flipV="1">
            <a:off x="2125800" y="3738240"/>
            <a:ext cx="3311280" cy="190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462480" y="3419280"/>
            <a:ext cx="288720" cy="360360"/>
            <a:chOff x="3462480" y="3419280"/>
            <a:chExt cx="288720" cy="360360"/>
          </a:xfrm>
        </p:grpSpPr>
        <p:sp>
          <p:nvSpPr>
            <p:cNvPr id="93" name=""/>
            <p:cNvSpPr/>
            <p:nvPr/>
          </p:nvSpPr>
          <p:spPr>
            <a:xfrm flipV="1">
              <a:off x="3462480" y="3419280"/>
              <a:ext cx="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62480" y="3427200"/>
              <a:ext cx="288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 rot="5400000">
            <a:off x="6271920" y="2414520"/>
            <a:ext cx="33051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思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6" name=""/>
          <p:cNvSpPr/>
          <p:nvPr/>
        </p:nvSpPr>
        <p:spPr>
          <a:xfrm>
            <a:off x="5294520" y="5638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垂直平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70800" y="4876920"/>
            <a:ext cx="481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经过线段中点并且垂直于这条线段的直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叫做这条线段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垂直平分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图形轴对称的性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如果两个图形关于某条直线对称，那么对称轴是任何一对对应点所连线段的垂直平分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轴对称图形的对称轴，是任何一对对应点所连线段的垂直平分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38680" y="3429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781680" y="31240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9800" y="58672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3352680"/>
            <a:ext cx="2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12080" y="33526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72360" y="3541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10640" y="3465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7680" y="541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25200" y="529416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29400" y="342900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69080" y="350532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62720" y="53704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657600"/>
            <a:ext cx="420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如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垂直平分————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垂直平分————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垂直平分————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探究 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由此我们可以得出线段垂直平分线的性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00240" y="1676520"/>
            <a:ext cx="50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线段垂直平分线上的点与这条线段两个端点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距离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63760" y="27432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你能证明这个性质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85240" y="34210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反过来还成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79080" y="4114800"/>
            <a:ext cx="58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结论：与一条线段两个端点距离相等的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在这条线段的垂直平分线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54320" y="54784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你能证明这个结论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从上面两个结论可以看出：在线段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垂直平分线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上的点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A,B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距离都相等；反过来，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A,B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距离相等的点都在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上，所以直线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可以看成与两点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A,B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距离相等的所有点的集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21760" y="3733920"/>
            <a:ext cx="34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练习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P34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练习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19320" y="1371600"/>
            <a:ext cx="670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例、 如图，点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和点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关于某条直线成轴对称，你能作出这条对称轴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36576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36576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7800" y="342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06960" y="342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09480" y="5335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分析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我们只要连接点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和点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画出线段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AB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的垂直平分线，就可以得到点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的对称轴。而由两点确定一条直线和线段垂直平分线的性质，只要作出到点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距离相等的两点即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2819520"/>
            <a:ext cx="1447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3623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作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971800"/>
            <a:ext cx="6095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、分别以点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为圆心，大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的长为半径作弧（为什么），两弧相交于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两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44197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、 作直线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CD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50292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CD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就是所求的直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25146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、连接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33624" t="73141" r="29981" b="16455"/>
          <a:stretch/>
        </p:blipFill>
        <p:spPr>
          <a:xfrm>
            <a:off x="5410080" y="3124080"/>
            <a:ext cx="2819520" cy="1454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>
            <a:off x="6364080" y="3827160"/>
            <a:ext cx="377640" cy="72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08041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080411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 rot="5920200">
            <a:off x="6821280" y="4154400"/>
            <a:ext cx="373680" cy="73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08041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080411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3886200"/>
            <a:ext cx="118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0760" y="2971800"/>
            <a:ext cx="377280" cy="72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08110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081107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5679800">
            <a:off x="6665400" y="2794320"/>
            <a:ext cx="373320" cy="43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871" y="174"/>
                </a:moveTo>
                <a:arcTo wR="10800" hR="10800" stAng="-6017325" swAng="3697735"/>
                <a:lnTo>
                  <a:pt x="10800" y="10800"/>
                </a:lnTo>
                <a:close/>
              </a:path>
              <a:path fill="none" w="21600" h="21600">
                <a:moveTo>
                  <a:pt x="8871" y="174"/>
                </a:moveTo>
                <a:arcTo wR="10800" hR="10800" stAng="-6017325" swAng="3697735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2666880"/>
            <a:ext cx="0" cy="210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274320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81680" y="4572000"/>
            <a:ext cx="3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59436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思考：怎样得到图形的对称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970520" y="2895480"/>
                <a:ext cx="641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小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76212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如果两个图形关于某条直线对称，那么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称轴是任何一对对应点所连线段的垂直平分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轴对称图形的对称轴，是任何一对对应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所连线段的垂直平分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28195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线段垂直平分线上的点与这条线段两个端点的距离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38862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与一条线段两个端点距离相等的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这条线段的垂直平分线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1T07:16:49Z</dcterms:created>
  <dc:creator> </dc:creator>
  <dc:description> </dc:description>
  <cp:keywords/>
  <dc:language>en-US</dc:language>
  <cp:lastModifiedBy>User</cp:lastModifiedBy>
  <dcterms:modified xsi:type="dcterms:W3CDTF">2014-11-05T02:44:05Z</dcterms:modified>
  <cp:revision>1</cp:revision>
  <dc:subject>  </dc:subject>
  <dc:title>  </dc:title>
</cp:coreProperties>
</file>